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E523-2AA5-4AF0-90D6-B95CE9FC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DFC1-C8AC-468A-ACF2-D9C549F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85DC-0969-41DD-8C90-1B56CEC1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ADE8-3DED-4C26-9081-D76BE223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939D-432A-4EA3-9F1F-93F1D7DC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93B9-D2EA-4F0D-927D-D4D385A6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0E0-85EF-458C-A3BF-6A6F129B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EAF3-1314-411D-B8B4-F355E45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0060-1BB2-48C7-B9FC-A14796E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88CB-6ECA-4078-B98E-DA91F649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15E5-3110-4C61-9C8D-4DBE534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11FC-BB62-4E86-8624-34F3CEF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531-5AB0-48B8-A370-85C29EF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F893-A53B-4284-A083-89DEBF01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0ADA-DDD1-40ED-8979-F7BECE5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2032-00E3-4494-B562-5ABCCFD6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252B-7A9E-4DE0-A668-9CA9E8AF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D424-8F10-435B-A10F-2513EE4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A6E2-4D8D-41CA-A28E-759C3B75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E208-CF11-401E-986A-8503F6A8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A738-729F-4644-A992-5FC30481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2428-525C-4756-A48C-6316C38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B02C-A485-42B3-9D2E-3C131DC4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2087-CFFD-4FAB-99E6-AB8E889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8C35-0767-4EF2-9E4C-F81BFC626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B117-E051-4476-A2D1-5B60413F9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ious Messeng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1120" y="3024360"/>
            <a:ext cx="69865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erious about delivering mess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Kevin Scrog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rey Faib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featured instant messaging client designed in 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le of running on multiple plat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interactive and user-friendly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-designed back-end protoco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ent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name, Nickname, Status, Contact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, E-Mail, Location, Gender, Birthday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able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/Delete/Block Cont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 Files (Time Permit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ver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Authenticates various client cha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(ie. login, password, adding contacts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onnecting Cli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lient Information Stor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ata stored using SQL Serv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Interactive GUI for monitoring/debug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iable, customizable, user-friendly, fully-featured instant messaging cl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cution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424720" cy="5084640"/>
        </p:xfrm>
        <a:graphic>
          <a:graphicData uri="http://schemas.openxmlformats.org/drawingml/2006/table">
            <a:tbl>
              <a:tblPr/>
              <a:tblGrid>
                <a:gridCol w="5256360"/>
                <a:gridCol w="316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cke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 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abase Managemen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Ser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working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Cli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lf-Done (Nov 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ensive 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ra Features + Finishing Touches (Time Permittin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cember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36Z</dcterms:created>
  <dc:creator>Kevin Scroggins</dc:creator>
  <dc:description/>
  <dc:language>en-US</dc:language>
  <cp:lastModifiedBy>Kevin Scroggins</cp:lastModifiedBy>
  <dcterms:modified xsi:type="dcterms:W3CDTF">2010-11-02T13:00:01Z</dcterms:modified>
  <cp:revision>5</cp:revision>
  <dc:subject/>
  <dc:title>Serious Messenger</dc:title>
</cp:coreProperties>
</file>